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6.gif" ContentType="image/gif"/>
  <Override PartName="/ppt/media/cashreg.wav" ContentType="audio/x-wav"/>
  <Override PartName="/ppt/media/image10.gif" ContentType="image/gif"/>
  <Override PartName="/ppt/media/ricochet.wav" ContentType="audio/x-wav"/>
  <Override PartName="/ppt/media/chimes.wav" ContentType="audio/x-wav"/>
  <Override PartName="/ppt/media/image5.gif" ContentType="image/gif"/>
  <Override PartName="/ppt/media/carbrake.wav" ContentType="audio/x-wav"/>
  <Override PartName="/ppt/media/image11.gif" ContentType="image/gif"/>
  <Override PartName="/ppt/media/applause.wav" ContentType="audio/x-wav"/>
  <Override PartName="/ppt/media/image9.gif" ContentType="image/gif"/>
  <Override PartName="/ppt/media/explode.wav" ContentType="audio/x-wav"/>
  <Override PartName="/ppt/media/camera.wav" ContentType="audio/x-wav"/>
  <Override PartName="/ppt/media/image8.gif" ContentType="image/gif"/>
  <Override PartName="/ppt/media/laser.wav" ContentType="audio/x-wav"/>
  <Override PartName="/ppt/media/image1.gif" ContentType="image/gif"/>
  <Override PartName="/ppt/media/image2.gif" ContentType="image/gif"/>
  <Override PartName="/ppt/media/whoosh.wav" ContentType="audio/x-wav"/>
  <Override PartName="/ppt/media/image4.gif" ContentType="image/gif"/>
  <Override PartName="/ppt/media/gunshot.wav" ContentType="audio/x-wav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8DF-F0BB-4AEC-A22F-4043BF77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EE3-4566-4918-8BD2-7268B574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3BE-9588-4B1C-A82B-58E829C6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361-B8F2-4B9B-88F5-83EA47F1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C54-84FC-440A-9836-EA97A0BE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F6F-40E0-4B16-9F8C-AE4425D5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911-7481-4DCD-96D8-93ACE02A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FDE-9BEE-4804-A14B-9A8A820A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897-5220-4867-8FA0-A4540D6F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086-4900-45DC-BCB8-11648E73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5C6-F89E-447C-8FA4-65443EAB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F6E-67AA-45CE-8AF9-B5373A15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2573-875C-40DB-B82C-0078D2B0F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38088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ANTONYM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0"/>
            <a:ext cx="9144000" cy="8222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xample:  light  dark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e entered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dark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building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ue enjoyed the early morning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light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Program Files\Microsoft Office\Clipart\homeanim\ag00433_.gif"/>
          <p:cNvPicPr/>
          <p:nvPr/>
        </p:nvPicPr>
        <p:blipFill>
          <a:blip r:embed="rId1"/>
          <a:stretch/>
        </p:blipFill>
        <p:spPr>
          <a:xfrm>
            <a:off x="5181480" y="1066680"/>
            <a:ext cx="3657600" cy="388620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9144000" cy="7698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Name 5 words and their antonyms.  Use each correctly in a sentenc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c:\Program Files\Microsoft Office\Clipart\homeanim\j0076136.gif"/>
          <p:cNvPicPr/>
          <p:nvPr/>
        </p:nvPicPr>
        <p:blipFill>
          <a:blip r:embed="rId1"/>
          <a:stretch/>
        </p:blipFill>
        <p:spPr>
          <a:xfrm>
            <a:off x="1981080" y="320040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9536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ample:  fast   slo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bus goe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fast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turtle i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low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c:\Program Files\Microsoft Office\Clipart\homeanim\bd13659_.gif"/>
          <p:cNvPicPr/>
          <p:nvPr/>
        </p:nvPicPr>
        <p:blipFill>
          <a:blip r:embed="rId1"/>
          <a:stretch/>
        </p:blipFill>
        <p:spPr>
          <a:xfrm>
            <a:off x="3124080" y="1219320"/>
            <a:ext cx="5486400" cy="21034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carbrak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0"/>
            <a:ext cx="9144000" cy="72954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ample:  large  smal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hippopotamus i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large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mouse i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mall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Program Files\Microsoft Office\Clipart\homeanim\bd13775_.gif"/>
          <p:cNvPicPr/>
          <p:nvPr/>
        </p:nvPicPr>
        <p:blipFill>
          <a:blip r:embed="rId1"/>
          <a:stretch/>
        </p:blipFill>
        <p:spPr>
          <a:xfrm>
            <a:off x="4572000" y="27432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0"/>
            <a:ext cx="9144000" cy="134298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ample:  tall   shor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dinosaur i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tall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boy i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hort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c:\Program Files\Microsoft Office\Clipart\homeanim\ag00043_.gif"/>
          <p:cNvPicPr/>
          <p:nvPr/>
        </p:nvPicPr>
        <p:blipFill>
          <a:blip r:embed="rId1"/>
          <a:stretch/>
        </p:blipFill>
        <p:spPr>
          <a:xfrm>
            <a:off x="6400800" y="762120"/>
            <a:ext cx="2743200" cy="640080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6320" y="0"/>
            <a:ext cx="9524880" cy="839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ample:  noise  sil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tractor’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noise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hurt our ear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ilence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was relaxing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c:\Program Files\Microsoft Office\Clipart\WebArt\bd13771_.gif"/>
          <p:cNvPicPr/>
          <p:nvPr/>
        </p:nvPicPr>
        <p:blipFill>
          <a:blip r:embed="rId1"/>
          <a:stretch/>
        </p:blipFill>
        <p:spPr>
          <a:xfrm>
            <a:off x="5562720" y="342900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gunsho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0"/>
            <a:ext cx="9144000" cy="9751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xample:  feeble   stro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old dog is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feebl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giant insect is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strong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c:\Program Files\Microsoft Office\Clipart\WebArt\bd13729_.gif"/>
          <p:cNvPicPr/>
          <p:nvPr/>
        </p:nvPicPr>
        <p:blipFill>
          <a:blip r:embed="rId1"/>
          <a:stretch/>
        </p:blipFill>
        <p:spPr>
          <a:xfrm>
            <a:off x="3603600" y="3352680"/>
            <a:ext cx="5540400" cy="381024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ricoche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82220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xample:  rich   poo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rich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king gave to the need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poor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ad no hom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c:\Program Files\Microsoft Office\Clipart\homeanim\j0076179.gif"/>
          <p:cNvPicPr/>
          <p:nvPr/>
        </p:nvPicPr>
        <p:blipFill>
          <a:blip r:embed="rId1"/>
          <a:stretch/>
        </p:blipFill>
        <p:spPr>
          <a:xfrm>
            <a:off x="5181480" y="2743200"/>
            <a:ext cx="396252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0"/>
            <a:ext cx="9144000" cy="874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xample:  wild   ta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wild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bull is ang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bir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ta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bd19579_"/>
          <p:cNvPicPr/>
          <p:nvPr/>
        </p:nvPicPr>
        <p:blipFill>
          <a:blip r:embed="rId1"/>
          <a:stretch/>
        </p:blipFill>
        <p:spPr>
          <a:xfrm rot="10800000">
            <a:off x="9144000" y="8381880"/>
            <a:ext cx="92160" cy="84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ag00044_"/>
          <p:cNvPicPr/>
          <p:nvPr/>
        </p:nvPicPr>
        <p:blipFill>
          <a:blip r:embed="rId2"/>
          <a:stretch/>
        </p:blipFill>
        <p:spPr>
          <a:xfrm>
            <a:off x="3048120" y="289548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1027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xample:  hard   sof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hard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rocks were b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beach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pillow was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soft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c:\Program Files\Microsoft Office\Clipart\WebArt\bd19591_.gif"/>
          <p:cNvPicPr/>
          <p:nvPr/>
        </p:nvPicPr>
        <p:blipFill>
          <a:blip r:embed="rId1"/>
          <a:stretch/>
        </p:blipFill>
        <p:spPr>
          <a:xfrm>
            <a:off x="3733920" y="2666880"/>
            <a:ext cx="5105160" cy="345924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13:15:26Z</dcterms:created>
  <dc:creator>Graves</dc:creator>
  <dc:description/>
  <dc:language>en-US</dc:language>
  <cp:lastModifiedBy>teacher</cp:lastModifiedBy>
  <dcterms:modified xsi:type="dcterms:W3CDTF">2010-11-14T02:29:43Z</dcterms:modified>
  <cp:revision>7</cp:revision>
  <dc:subject/>
  <dc:title>PowerPoint Presentation</dc:title>
</cp:coreProperties>
</file>